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56C4-0C59-4806-B728-152BE03B1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6532-6B4D-4B55-8E13-039B6A2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752E2-5FFD-4047-AC55-5351EB79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393456-3CF0-4B50-A549-FE53849C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83491-D19C-4534-9D35-FCCA38AF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D4ED6D-6AAA-4714-8C75-B4E7C30D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E3E50-CAE5-4B1A-A406-5EC2E9A4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C7857-02F6-4897-B3AC-05EE8BA2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162801-E3DC-45DD-B863-F22FB97D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3F7225-E4A1-48FA-B43A-3B2AE52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B15463-7E4F-4B39-B212-CB5759144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621F-B9A2-4C07-A70A-56FED0FEF9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29F4-14C9-484B-B763-D264C54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ADDA-1DE0-455B-82CF-A0748E03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594C-2698-4F5A-9DAB-6A6109EC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27FDF-7D06-4C3B-9F23-91E28C61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1022F-6636-452F-A4AB-65296A9F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CEDE5-2E34-4196-91D5-08BD5464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5791-F953-445E-A89E-DD90183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10BE-8425-4EFA-814D-6B7EF1BD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5B26-AF66-4395-BB75-446E810E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AA826-7462-48DE-87E5-91850FE5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63851-CCA5-470A-B844-7480156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EEFB-0CEB-4F81-8F08-FEF7F8A5C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DEEF2-D41D-451B-A003-84C21DA1A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A8CF4B-06A4-458E-AA1D-A88598B32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0EABE-5700-48A7-8915-BE731D52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28C9B-050C-4F70-814C-FCF99613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4BDEB-8ECE-40D0-A348-B71D41C0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44486-70C6-4149-A90F-AF089C5A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85FBAC-17CC-46D1-BC67-C7F04DC0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2AA79-47B5-402B-9037-2B07D167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573B5-E7BF-4AA0-838C-491F79F0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18E1F-58ED-46DA-81FA-BAFA8EBC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B2645-8F20-4345-AA38-AC7CD1F4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B19D30-B067-4C0D-AA2D-E91C7472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CD374-267D-47C8-B49F-17D0075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71A0A-E48C-48C3-B4C2-1281B2990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5595A-D9CF-4010-A007-6AF354380C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7B338-A2AA-4C5B-ADFE-551ADA25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0C10A-7314-40E5-9C5D-F82458C6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3CA8E-7AEE-4A3B-9ACE-75AC99A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AF715-8880-42BF-8870-22C7ACD3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C6F82-70CE-4B14-9F53-4E1F3F1F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47494-4901-4360-9B63-96FCF93A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5B87-6809-4C5F-A7D9-BD38CA1F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97DE8-1BC1-4E48-B5B7-B0CA11C4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3775C-80B5-4094-8496-8F9B2A0E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5E350-E584-4B37-A069-9C7A7B3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86F9F-97CA-4B13-8190-F920360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4494C-6E5A-427C-9066-7BBC68500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2C370-1C13-4AC5-AB57-603877D2A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966CD-F01D-4529-A01D-826BF99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AF763-04ED-4885-B77B-59405283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4514B-F823-45E1-B781-7CCA1828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2248E-9F95-4BBC-9D51-57E634B0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EBC7C-5931-4267-B95B-D67D5801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44050-3BA0-4EBA-871B-3B9C620A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56D30-6E7C-4D8F-93D4-C46D8A94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200C4-780B-44EC-AA22-5E482090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0A1E-1969-41DE-9698-4A2C6B0B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C9D80-A357-4377-BCA5-3B2541AA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B1AE2-E0A8-4244-8EEC-4ED12AD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5B232-4E1D-4A5F-86A9-ECE14B1E69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A45A7-4D4E-4B20-BB30-3481EDB5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6F58C-06B5-495C-92CF-0831B07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342CA-FA27-41A9-99EE-E1436506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9B931-CEEA-4FB8-BB74-98F0A7A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40CF8-F594-46A8-913B-A2F7714F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30768-6A0F-4B44-AAA4-B06E1DA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F912C-824A-4DE5-AD27-A463E7A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A3CDD-C075-4FCB-9912-E4D0369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2B999-C939-411E-9476-595B52F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58B6E-F337-447E-81BE-22C47224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D44D9-CD84-42E9-94BD-811AE2C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06941-656F-48E1-8392-EBFF2FF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2BDD6-7937-44B5-A79E-23A84C46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C3F5F-ED72-42A4-930D-3F7FA520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A00D8-F6F6-457E-A726-CA84840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F38EF-3741-4F2D-9AD5-DEF7234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081AE-F391-4645-802F-4E5DB4D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BB626-C955-4091-B894-331676E4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7391C-8D58-411F-A390-BD5E6CF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1F873-83EE-41D0-80FB-149F9680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F415-F9E1-4CC3-B4CE-C0DBEE9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A9719-EF92-4029-9020-84F0113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2B40-9569-4F4C-B608-ED32348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FE188-E54E-48B1-B997-E62D5BB0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2E7CF-66DF-43AA-89B4-A703DDE1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C7C6B-FE26-46E2-9398-0AE43FB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2F17F-B0FA-4A74-A0B8-1D9490B8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A51B7-7CF0-4F32-AC10-FFE37ACF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0E4A0-3B82-48C3-9238-C4C0626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C42A4-972E-409A-8E78-D3E7AB98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2888D-AA3A-4548-8B66-B686131C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3EF9A-C9DD-4543-94D2-52E5387B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B8FAA-C10A-4505-AA92-0F946CF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9B404-70DB-4743-B737-5788F25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9473C-18A4-474A-BC71-4E1FB66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C0040-C895-42A6-8FEA-6ECDAE8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30910-EC47-48F6-B9D1-F0A15D75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419F5-D2D2-4836-B368-82B75EF4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DF049-668D-4D4E-8305-62C6FD65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A9327-5054-4CB7-A532-6FBB4556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CC480-0138-4369-83BE-9D860C05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C287F-7C43-406F-9F9A-D1B27A9E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9A8BD-A0DC-4409-95F4-B514CC93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E054C-63D4-477E-BDA6-8F798521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E1EF8-F586-46ED-BF32-F71D67F0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41827-C2F9-495D-8606-BB040F1C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1D807-F0DD-47AA-A42A-891841D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CD18-4CC1-4B1F-A557-B0BFB40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AC6D-B179-4750-995A-629AC94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63E81-6039-4725-9A34-F53DA4C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51E2C-FBBE-4C04-A4A4-606A417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84D17-1B05-4A95-935D-C023CDEE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EE15E-14B2-4078-B110-7E08D032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86C72-31FD-469E-8E27-2873DB54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D1231-E029-4F87-BA24-83B0560D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07F74-9ADD-4626-9D21-E5D14912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89B26-B832-4511-8550-4FD0E84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077D0-6322-42C0-ADC9-7529256A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31BA9-A53D-4FE9-83C7-5DDDC2A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D88B7-1E53-4609-8C02-80E166A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1EC59-B54B-4C8F-8413-9F6F6A2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0D5EB-DC8F-45C9-98FB-0662A00A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4ED0F-7723-46B9-988A-0CC1A91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926EF-218A-4EA1-A56D-43CBDA98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D0BED-497F-4E99-B3D6-7B190838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4F18B-5A8C-4A1A-985D-E134DEE4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38288-090C-405C-934C-4B3B6B07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DA5E9-3AB9-4094-B828-DC591523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384E5-7314-42A9-BA58-CFDB3665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1F44F-2F0D-43AC-8816-C6D8D87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A7D69-02FB-425F-962A-E8DC8239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7C10E-BEC0-42BF-8FCE-E49B9D0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87F3A-8823-4555-AD59-7B50E83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82B89-0762-49FC-98B2-B8C172B4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4D68C-8F2D-461A-9F48-45D40A4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4E6E4-4911-4757-BFFF-7E43092F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2F121-D459-47AC-9B89-FAE52E5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28BD0-ABC8-44E1-8B15-3B71BE5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D9D9D-76FC-4804-8498-F0420C7F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104EA-EC4A-4054-978C-93D69335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BA092-2CCC-4BA8-86DF-7633F873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449F0-7B90-42A1-982A-789F8F11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B510B-43BE-4474-8E0A-9FFA7E1B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2FA4E-7C00-40A5-ABB1-8750CEA1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3F2C2-4DA9-4C63-973B-48DC91D9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06FDA-663C-411C-9C24-C514D80A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A38EE-9661-4796-84FB-E7FB869B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62483-DD59-42E4-A3AB-2D31CC6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E45A1-2C87-4297-BE5E-9706C6B5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41659-A9ED-47F1-B62D-75F3FE2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41B8C-6210-4AED-9DF0-6FE3BF02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6C6CB-0DA4-4E4C-A5F1-F6921217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855C-3F6E-4F43-AA39-E519EA7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33C35-A1AF-4897-8EB9-5C93F679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FA65D-FE8A-4B40-B060-8C7F668E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58D5D-3D21-41B7-9EAD-8417567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F5403-18FE-476D-9898-C54B6191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2E6AD-0CBA-4E9D-AD84-8F5CEBE6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7016C-8680-4D5E-90D5-90E2E7A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BA034-D669-4F77-802E-69C2A581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5D377-07C3-4700-992D-AADAC37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782D8-F936-4C87-82CB-8290315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9DC73-055B-47D7-8981-ADBA873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0FB86-DE2C-4F46-8E6F-34F8A69C1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19782-62C3-45A9-A1B3-305D41F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F16E8-760A-44DB-9E32-B19DF789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3978D-7097-4142-9FD7-52769DCB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F33C5-4E0E-4EF4-B8FC-B12B2992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9C3BE-24B7-42B8-BC8A-0C7AEF80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B2BE1-8B62-4E42-A07E-7B6B6D51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335BA-C577-4BE5-8584-458EBACE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4E6EE-5656-44AB-B2DF-B8878BD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C8491-CCA6-4870-9A28-5C4F13F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4C236-422E-4790-9BCE-E37C4E6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84630-BB5A-4675-A5FF-B63561E3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CD885-7F96-4B7B-8049-840A48B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49671-1B85-4EE9-8462-E6441B4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8B4DAA-A6B7-43C4-8A3C-B390FC74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737E4-6A5D-4A1C-B263-EA0B0569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715D1-1660-42D9-B0E7-66ED9336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448C6-5521-4233-B94A-CDFB7C5B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EAD25-2CB8-461E-9A64-791E4FE4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49958-EC85-4939-87BB-E1E8B110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F1693-275F-4204-AB5E-D5377DB3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C58BA-222D-477F-AE3F-9D884424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9B1DA-5709-4A6A-B39E-DD26B6A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DC6A0-CCAC-480E-B839-8176C15F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CE19C-BF46-4068-B38A-21EDFBD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E08F8-FC3D-4B2A-8207-DC2BA0F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F4674-5A52-460A-A8FD-52AE23DC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D495D-0E73-4F3A-B292-1203C73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1C11A-64B4-4392-96A7-E66571C5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5E8ED-1CBF-4EEA-94F0-837C5518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2CC1C-EC05-45A8-9F3C-7F8F44CD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AFC3B-6ED6-4B04-B043-5FE1D0A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6509B-E02B-490C-9454-CEC1E03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8E5B5-8A44-40B0-AA62-C764E7C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48783-CE47-41D9-BAA3-C0F910DA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2A1C7-6BA0-4469-8B32-B3B3C1E2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16C9B-99AB-4CFF-AFDC-E8B5AE10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016AA-7DA9-4AFC-84BC-99CEC86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6B96D-74CA-451C-AF4D-3F36B97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9BE94-5467-4461-96D6-A59F1A5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7EFBF1-D5BA-46C7-AED8-B005FD3B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00E30-0312-4303-8547-39804E55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9E5F2-7325-4261-9AD4-47B38FA5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E7B06-9DAA-413B-8253-9592632A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2097-F902-4C3A-9A59-4095B241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0AEF1-558B-4A25-94A7-88628813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0E9C8-66E1-41E4-AB16-D0C44F69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A8BDE-6D0F-4846-82E9-B68DCB5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41CCA-55CB-415C-8AA1-BFA7435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58561-BA3F-424B-A5D7-8BC765E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78402-951E-49D0-8709-1D7F5DFA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BAD9E-D958-4634-989F-FE0985C0C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293E-836C-41BD-BE55-D14B654E5A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2EA6-A380-4994-9FCD-D9FA818B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D7F2-8A4F-49BC-91FB-C4E09D7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56D9-5076-4F08-B22C-522DF986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17A4-70B6-4407-909F-C978C8C1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2C6B-F7C5-4C36-A300-FBAC6811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8634-FE07-4B74-862D-C4872E52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E2AF-7444-41E0-9224-BB7E0C55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46DD-52F8-4EE1-A459-7573C64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5B4C-E963-48DB-A4FC-216F78B3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AD747-CB8E-4098-A2D8-7687B1CB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51B4-6D4F-41C9-A051-8A5EE00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36C9-C271-4682-9156-5EA0F7B6C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9F64E-DB66-4EEE-8C1C-DED42FC27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BDA2-78E3-4C67-AFD0-36878D21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5B100-AF20-4985-8FD9-2DA4708C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23E6E-D995-4989-BE26-D88505F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7D55C-74BB-4A77-9601-FC7F0494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EAA35-211A-4257-9CA5-920EE108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697C5-4A8A-47DF-BF30-A204B0FE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962A7-9BEB-435F-8CCC-E5814674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DA061-9D9C-49E8-9016-EB7A240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CD5D6-9758-4498-A22F-111D6745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9FDCF-4AB0-4018-8239-3B97646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2F657-A92D-43F9-BA9C-EE70C36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E5BC-2CEF-43A6-A1FC-99CAC06C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9A1B4-A7E3-4D4D-B24B-3F1D6A4CD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66818-C746-4F8D-BD7C-4B4A60FE4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FA3442-25EE-414C-B8DD-7530B602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2AC45-F12B-494D-B918-67578D7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76F51-2BD6-4654-85F5-C321850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4A5D5-8E08-4864-AADF-30FC9C6A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28750-495F-43C3-AEB2-07014BD7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CC490C-0EF0-46EA-9C0B-F8FB202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7CDB95-8B4E-4223-8A52-39D1FAD3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E59099-6595-453F-B5FB-8696F9A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8590-632F-4D8D-A77B-B5900695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006DF-C0FB-4223-9EA0-2BF493C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443936-1059-4393-9D65-95532B2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B50A3-B410-4613-806F-312E4D147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8C85-EDC2-482F-939C-EBE3F8433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4B1A-FF6E-4288-9B56-935EA25D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501B-B44E-411B-AB15-8F923269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F7DB-6999-4C9B-8ECE-19C9819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2E6DD-AB77-4784-A956-0DB3A756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10C5-6685-472F-9693-D3C258ED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E8484-24FA-4E7E-A7D1-FFF2A53B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E6FB-387C-4E14-AB82-43EC983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6941-6DD9-4644-BB3E-304E00B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6570-592B-4EFF-8BAE-0269EE8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50C1-5CBF-4BED-8D76-2339CB3E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600F-81CF-400B-99FB-9D2ED33E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34B2-5F92-4B8B-BB93-E22ED445EF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8DF02-292E-4913-AE2F-BFAB9700D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A527E-09F2-48EE-BC6F-5A3B3F11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6979C-FBDF-4041-9E39-74F0AA3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2ADB6-C262-48A7-806E-CFA32E1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3D5BA-B391-46D7-96B9-F00E915D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BD5A-9EF8-46C8-8ED9-4860CF0D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9519C-78CB-4E3F-8C1F-99D0EB9B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488FF-19B3-429B-A7D9-318F5376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E85CA-21AB-4D22-8D85-69CCB51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972EC-1A9E-4F97-B5F6-D2C3117C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BB9F8-8B45-4010-A3E4-A934038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23395-5E3C-46A4-B126-DD672CD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E597A9-0EC0-482B-ABBC-E9E37F134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A31AF-8163-4E7B-BAA6-B82C6FAE0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17A3A-CF82-4E1F-87DF-148E2B4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61A19E-BAC7-4D1A-86E1-1BF3A802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6CD4-28E9-43F4-BFD9-C63128CAA6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129-6922-4447-97F0-65B90C901D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2D98-6573-493A-86F6-276A8F93732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2456-5097-439B-B5D0-B805B8C59F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B77F-AA77-409A-B340-BB150BE6EF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6A5-4362-43BE-9397-AAD6C00617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2AB-26ED-44C5-865F-A44EC212CF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BE5E-E14D-470F-9E24-658BBE150A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60E5-7C56-49FA-A224-90F92BB2AD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C0C-766F-42CD-BCF0-D57CC46648C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7CE-F51F-40B5-AA33-EDA4E8DA5E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29B3-5C2A-4C4E-8805-EAD052DE50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8F72-773F-465F-B3FC-05983A0706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568-90A4-40D5-A960-47634510D7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275-D474-428A-83A6-9E9B0C7AD3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ADD0-0D7D-4796-9229-81D0949362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664-2865-4045-8B73-54DED8E5B9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063-90A0-4F32-9F1A-2D8AC1C190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15F-0FAC-41D3-86EF-4BDC3CE8B2F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921E-ACB9-4A87-9336-96330B8BD0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4A2D-0415-4EEF-BD56-9761F655CB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8317-697B-41A3-8D35-C090FD4B89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810-8FEA-4222-B584-9056212DBC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906-3F4A-4CD3-86B1-3C50BF5FFD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1"/>
          <p:cNvSpPr/>
          <p:nvPr/>
        </p:nvSpPr>
        <p:spPr>
          <a:xfrm>
            <a:off x="762120" y="1014480"/>
            <a:ext cx="22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夺红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477" descr="猴2"/>
          <p:cNvPicPr/>
          <p:nvPr/>
        </p:nvPicPr>
        <p:blipFill>
          <a:blip r:embed="rId1"/>
          <a:stretch/>
        </p:blipFill>
        <p:spPr>
          <a:xfrm>
            <a:off x="744480" y="1847880"/>
            <a:ext cx="55584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00" name="组合 9"/>
          <p:cNvGrpSpPr/>
          <p:nvPr/>
        </p:nvGrpSpPr>
        <p:grpSpPr>
          <a:xfrm>
            <a:off x="1987560" y="1986120"/>
            <a:ext cx="1176120" cy="431640"/>
            <a:chOff x="1987560" y="1986120"/>
            <a:chExt cx="1176120" cy="431640"/>
          </a:xfrm>
        </p:grpSpPr>
        <p:cxnSp>
          <p:nvCxnSpPr>
            <p:cNvPr id="1001" name="直接箭头连接符 7"/>
            <p:cNvCxnSpPr/>
            <p:nvPr/>
          </p:nvCxnSpPr>
          <p:spPr>
            <a:xfrm>
              <a:off x="1987560" y="222156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2" name="矩形 8"/>
            <p:cNvSpPr/>
            <p:nvPr/>
          </p:nvSpPr>
          <p:spPr>
            <a:xfrm>
              <a:off x="2732040" y="198612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组合 10"/>
          <p:cNvGrpSpPr/>
          <p:nvPr/>
        </p:nvGrpSpPr>
        <p:grpSpPr>
          <a:xfrm>
            <a:off x="1987560" y="3668760"/>
            <a:ext cx="1176120" cy="431640"/>
            <a:chOff x="1987560" y="3668760"/>
            <a:chExt cx="1176120" cy="431640"/>
          </a:xfrm>
        </p:grpSpPr>
        <p:cxnSp>
          <p:nvCxnSpPr>
            <p:cNvPr id="1004" name="直接箭头连接符 12"/>
            <p:cNvCxnSpPr/>
            <p:nvPr/>
          </p:nvCxnSpPr>
          <p:spPr>
            <a:xfrm>
              <a:off x="1987560" y="390420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5" name="矩形 14"/>
            <p:cNvSpPr/>
            <p:nvPr/>
          </p:nvSpPr>
          <p:spPr>
            <a:xfrm>
              <a:off x="2732040" y="366876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39"/>
          <p:cNvGrpSpPr/>
          <p:nvPr/>
        </p:nvGrpSpPr>
        <p:grpSpPr>
          <a:xfrm>
            <a:off x="3269880" y="1986120"/>
            <a:ext cx="1178280" cy="431640"/>
            <a:chOff x="3269880" y="1986120"/>
            <a:chExt cx="1178280" cy="431640"/>
          </a:xfrm>
        </p:grpSpPr>
        <p:cxnSp>
          <p:nvCxnSpPr>
            <p:cNvPr id="1007" name="直接箭头连接符 40"/>
            <p:cNvCxnSpPr/>
            <p:nvPr/>
          </p:nvCxnSpPr>
          <p:spPr>
            <a:xfrm>
              <a:off x="3269880" y="222156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08" name="矩形 41"/>
            <p:cNvSpPr/>
            <p:nvPr/>
          </p:nvSpPr>
          <p:spPr>
            <a:xfrm>
              <a:off x="4015800" y="1986120"/>
              <a:ext cx="4323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组合 42"/>
          <p:cNvGrpSpPr/>
          <p:nvPr/>
        </p:nvGrpSpPr>
        <p:grpSpPr>
          <a:xfrm>
            <a:off x="3269880" y="3668760"/>
            <a:ext cx="1178280" cy="431640"/>
            <a:chOff x="3269880" y="3668760"/>
            <a:chExt cx="1178280" cy="431640"/>
          </a:xfrm>
        </p:grpSpPr>
        <p:cxnSp>
          <p:nvCxnSpPr>
            <p:cNvPr id="1010" name="直接箭头连接符 43"/>
            <p:cNvCxnSpPr/>
            <p:nvPr/>
          </p:nvCxnSpPr>
          <p:spPr>
            <a:xfrm>
              <a:off x="3269880" y="3904200"/>
              <a:ext cx="67068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1" name="矩形 44"/>
            <p:cNvSpPr/>
            <p:nvPr/>
          </p:nvSpPr>
          <p:spPr>
            <a:xfrm>
              <a:off x="4015800" y="3668760"/>
              <a:ext cx="4323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65"/>
          <p:cNvGrpSpPr/>
          <p:nvPr/>
        </p:nvGrpSpPr>
        <p:grpSpPr>
          <a:xfrm>
            <a:off x="4562640" y="1978200"/>
            <a:ext cx="1176120" cy="431640"/>
            <a:chOff x="4562640" y="1978200"/>
            <a:chExt cx="1176120" cy="431640"/>
          </a:xfrm>
        </p:grpSpPr>
        <p:cxnSp>
          <p:nvCxnSpPr>
            <p:cNvPr id="1013" name="直接箭头连接符 66"/>
            <p:cNvCxnSpPr/>
            <p:nvPr/>
          </p:nvCxnSpPr>
          <p:spPr>
            <a:xfrm>
              <a:off x="4562640" y="221364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4" name="矩形 67"/>
            <p:cNvSpPr/>
            <p:nvPr/>
          </p:nvSpPr>
          <p:spPr>
            <a:xfrm>
              <a:off x="5307120" y="197820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组合 68"/>
          <p:cNvGrpSpPr/>
          <p:nvPr/>
        </p:nvGrpSpPr>
        <p:grpSpPr>
          <a:xfrm>
            <a:off x="4562640" y="3660840"/>
            <a:ext cx="1176120" cy="431640"/>
            <a:chOff x="4562640" y="3660840"/>
            <a:chExt cx="1176120" cy="431640"/>
          </a:xfrm>
        </p:grpSpPr>
        <p:cxnSp>
          <p:nvCxnSpPr>
            <p:cNvPr id="1016" name="直接箭头连接符 69"/>
            <p:cNvCxnSpPr/>
            <p:nvPr/>
          </p:nvCxnSpPr>
          <p:spPr>
            <a:xfrm>
              <a:off x="4562640" y="389628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17" name="矩形 70"/>
            <p:cNvSpPr/>
            <p:nvPr/>
          </p:nvSpPr>
          <p:spPr>
            <a:xfrm>
              <a:off x="5307120" y="366084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77"/>
          <p:cNvGrpSpPr/>
          <p:nvPr/>
        </p:nvGrpSpPr>
        <p:grpSpPr>
          <a:xfrm>
            <a:off x="5907240" y="1978200"/>
            <a:ext cx="1176120" cy="431640"/>
            <a:chOff x="5907240" y="1978200"/>
            <a:chExt cx="1176120" cy="431640"/>
          </a:xfrm>
        </p:grpSpPr>
        <p:cxnSp>
          <p:nvCxnSpPr>
            <p:cNvPr id="1019" name="直接箭头连接符 78"/>
            <p:cNvCxnSpPr/>
            <p:nvPr/>
          </p:nvCxnSpPr>
          <p:spPr>
            <a:xfrm>
              <a:off x="5907240" y="2213640"/>
              <a:ext cx="66960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0" name="矩形 79"/>
            <p:cNvSpPr/>
            <p:nvPr/>
          </p:nvSpPr>
          <p:spPr>
            <a:xfrm>
              <a:off x="6651720" y="1978200"/>
              <a:ext cx="43164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80"/>
          <p:cNvGrpSpPr/>
          <p:nvPr/>
        </p:nvGrpSpPr>
        <p:grpSpPr>
          <a:xfrm>
            <a:off x="5906880" y="3660840"/>
            <a:ext cx="1168560" cy="431640"/>
            <a:chOff x="5906880" y="3660840"/>
            <a:chExt cx="1168560" cy="431640"/>
          </a:xfrm>
        </p:grpSpPr>
        <p:cxnSp>
          <p:nvCxnSpPr>
            <p:cNvPr id="1022" name="直接箭头连接符 81"/>
            <p:cNvCxnSpPr/>
            <p:nvPr/>
          </p:nvCxnSpPr>
          <p:spPr>
            <a:xfrm>
              <a:off x="5906880" y="3896280"/>
              <a:ext cx="664920" cy="1080"/>
            </a:xfrm>
            <a:prstGeom prst="straightConnector1">
              <a:avLst/>
            </a:prstGeom>
            <a:ln w="19080">
              <a:solidFill>
                <a:srgbClr val="06bcea"/>
              </a:solidFill>
              <a:miter/>
              <a:tailEnd len="med" type="arrow" w="med"/>
            </a:ln>
          </p:spPr>
        </p:cxnSp>
        <p:sp>
          <p:nvSpPr>
            <p:cNvPr id="1023" name="矩形 82"/>
            <p:cNvSpPr/>
            <p:nvPr/>
          </p:nvSpPr>
          <p:spPr>
            <a:xfrm>
              <a:off x="6646680" y="3660840"/>
              <a:ext cx="428760" cy="431640"/>
            </a:xfrm>
            <a:prstGeom prst="rect">
              <a:avLst/>
            </a:prstGeom>
            <a:noFill/>
            <a:ln w="1908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478"/>
          <p:cNvGrpSpPr/>
          <p:nvPr/>
        </p:nvGrpSpPr>
        <p:grpSpPr>
          <a:xfrm>
            <a:off x="6858000" y="1322280"/>
            <a:ext cx="431640" cy="665280"/>
            <a:chOff x="6858000" y="1322280"/>
            <a:chExt cx="431640" cy="665280"/>
          </a:xfrm>
        </p:grpSpPr>
        <p:sp>
          <p:nvSpPr>
            <p:cNvPr id="1025" name="AutoShape 1479"/>
            <p:cNvSpPr/>
            <p:nvPr/>
          </p:nvSpPr>
          <p:spPr>
            <a:xfrm>
              <a:off x="6858000" y="1364760"/>
              <a:ext cx="431640" cy="4435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115200 h 443520"/>
                <a:gd name="textAreaBottom" fmla="*/ 328320 h 44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480"/>
            <p:cNvSpPr/>
            <p:nvPr/>
          </p:nvSpPr>
          <p:spPr>
            <a:xfrm>
              <a:off x="6858000" y="1322280"/>
              <a:ext cx="0" cy="665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1478"/>
          <p:cNvGrpSpPr/>
          <p:nvPr/>
        </p:nvGrpSpPr>
        <p:grpSpPr>
          <a:xfrm>
            <a:off x="6842160" y="2989440"/>
            <a:ext cx="431640" cy="664920"/>
            <a:chOff x="6842160" y="2989440"/>
            <a:chExt cx="431640" cy="664920"/>
          </a:xfrm>
        </p:grpSpPr>
        <p:sp>
          <p:nvSpPr>
            <p:cNvPr id="1028" name="AutoShape 1479"/>
            <p:cNvSpPr/>
            <p:nvPr/>
          </p:nvSpPr>
          <p:spPr>
            <a:xfrm>
              <a:off x="6842160" y="3031920"/>
              <a:ext cx="431640" cy="443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115200 h 443160"/>
                <a:gd name="textAreaBottom" fmla="*/ 327960 h 4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1480"/>
            <p:cNvSpPr/>
            <p:nvPr/>
          </p:nvSpPr>
          <p:spPr>
            <a:xfrm>
              <a:off x="6842160" y="2989440"/>
              <a:ext cx="0" cy="664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3"/>
          <p:cNvGrpSpPr/>
          <p:nvPr/>
        </p:nvGrpSpPr>
        <p:grpSpPr>
          <a:xfrm>
            <a:off x="1351080" y="1724040"/>
            <a:ext cx="5332320" cy="784800"/>
            <a:chOff x="1351080" y="1724040"/>
            <a:chExt cx="5332320" cy="784800"/>
          </a:xfrm>
        </p:grpSpPr>
        <p:sp>
          <p:nvSpPr>
            <p:cNvPr id="1031" name="文本框 98"/>
            <p:cNvSpPr/>
            <p:nvPr/>
          </p:nvSpPr>
          <p:spPr>
            <a:xfrm>
              <a:off x="1351080" y="1927440"/>
              <a:ext cx="84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99"/>
            <p:cNvSpPr/>
            <p:nvPr/>
          </p:nvSpPr>
          <p:spPr>
            <a:xfrm>
              <a:off x="1869480" y="1724040"/>
              <a:ext cx="12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文本框 100"/>
            <p:cNvSpPr/>
            <p:nvPr/>
          </p:nvSpPr>
          <p:spPr>
            <a:xfrm>
              <a:off x="3282480" y="176508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文本框 101"/>
            <p:cNvSpPr/>
            <p:nvPr/>
          </p:nvSpPr>
          <p:spPr>
            <a:xfrm>
              <a:off x="4460760" y="1765080"/>
              <a:ext cx="87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102"/>
            <p:cNvSpPr/>
            <p:nvPr/>
          </p:nvSpPr>
          <p:spPr>
            <a:xfrm>
              <a:off x="5865120" y="1765080"/>
              <a:ext cx="81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104"/>
          <p:cNvGrpSpPr/>
          <p:nvPr/>
        </p:nvGrpSpPr>
        <p:grpSpPr>
          <a:xfrm>
            <a:off x="1351080" y="3430440"/>
            <a:ext cx="5371560" cy="775080"/>
            <a:chOff x="1351080" y="3430440"/>
            <a:chExt cx="5371560" cy="775080"/>
          </a:xfrm>
        </p:grpSpPr>
        <p:sp>
          <p:nvSpPr>
            <p:cNvPr id="1037" name="文本框 105"/>
            <p:cNvSpPr/>
            <p:nvPr/>
          </p:nvSpPr>
          <p:spPr>
            <a:xfrm>
              <a:off x="1351080" y="362412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文本框 106"/>
            <p:cNvSpPr/>
            <p:nvPr/>
          </p:nvSpPr>
          <p:spPr>
            <a:xfrm>
              <a:off x="1871640" y="343044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107"/>
            <p:cNvSpPr/>
            <p:nvPr/>
          </p:nvSpPr>
          <p:spPr>
            <a:xfrm>
              <a:off x="3251880" y="3461400"/>
              <a:ext cx="75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文本框 108"/>
            <p:cNvSpPr/>
            <p:nvPr/>
          </p:nvSpPr>
          <p:spPr>
            <a:xfrm>
              <a:off x="4468320" y="3461400"/>
              <a:ext cx="89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109"/>
            <p:cNvSpPr/>
            <p:nvPr/>
          </p:nvSpPr>
          <p:spPr>
            <a:xfrm>
              <a:off x="5797800" y="3461400"/>
              <a:ext cx="9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2" name="Picture 12" descr="小马"/>
          <p:cNvPicPr/>
          <p:nvPr/>
        </p:nvPicPr>
        <p:blipFill>
          <a:blip r:embed="rId2"/>
          <a:stretch/>
        </p:blipFill>
        <p:spPr>
          <a:xfrm>
            <a:off x="866880" y="3433680"/>
            <a:ext cx="523800" cy="681120"/>
          </a:xfrm>
          <a:prstGeom prst="rect">
            <a:avLst/>
          </a:prstGeom>
          <a:ln w="0">
            <a:noFill/>
          </a:ln>
        </p:spPr>
      </p:pic>
      <p:sp>
        <p:nvSpPr>
          <p:cNvPr id="1043" name="文本框 2"/>
          <p:cNvSpPr/>
          <p:nvPr/>
        </p:nvSpPr>
        <p:spPr>
          <a:xfrm>
            <a:off x="2658960" y="19620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3"/>
          <p:cNvSpPr/>
          <p:nvPr/>
        </p:nvSpPr>
        <p:spPr>
          <a:xfrm>
            <a:off x="3941640" y="194472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4"/>
          <p:cNvSpPr/>
          <p:nvPr/>
        </p:nvSpPr>
        <p:spPr>
          <a:xfrm>
            <a:off x="5254560" y="194004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5"/>
          <p:cNvSpPr/>
          <p:nvPr/>
        </p:nvSpPr>
        <p:spPr>
          <a:xfrm>
            <a:off x="6572160" y="193212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6"/>
          <p:cNvSpPr/>
          <p:nvPr/>
        </p:nvSpPr>
        <p:spPr>
          <a:xfrm>
            <a:off x="2641680" y="362916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9"/>
          <p:cNvSpPr/>
          <p:nvPr/>
        </p:nvSpPr>
        <p:spPr>
          <a:xfrm>
            <a:off x="3951360" y="362916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10"/>
          <p:cNvSpPr/>
          <p:nvPr/>
        </p:nvSpPr>
        <p:spPr>
          <a:xfrm>
            <a:off x="5248440" y="361944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15"/>
          <p:cNvSpPr/>
          <p:nvPr/>
        </p:nvSpPr>
        <p:spPr>
          <a:xfrm>
            <a:off x="6578640" y="3603600"/>
            <a:ext cx="7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2"/>
          <p:cNvSpPr/>
          <p:nvPr/>
        </p:nvSpPr>
        <p:spPr>
          <a:xfrm>
            <a:off x="523800" y="79056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3"/>
          <p:cNvSpPr/>
          <p:nvPr/>
        </p:nvSpPr>
        <p:spPr>
          <a:xfrm>
            <a:off x="561960" y="132876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+16+37=         74-30-28=             25+65-7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组合 7"/>
          <p:cNvGrpSpPr/>
          <p:nvPr/>
        </p:nvGrpSpPr>
        <p:grpSpPr>
          <a:xfrm>
            <a:off x="849240" y="1854360"/>
            <a:ext cx="1471680" cy="2226960"/>
            <a:chOff x="849240" y="1854360"/>
            <a:chExt cx="1471680" cy="2226960"/>
          </a:xfrm>
        </p:grpSpPr>
        <p:sp>
          <p:nvSpPr>
            <p:cNvPr id="1054" name="文本框 4"/>
            <p:cNvSpPr/>
            <p:nvPr/>
          </p:nvSpPr>
          <p:spPr>
            <a:xfrm>
              <a:off x="84924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 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3  7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直接连接符 5"/>
            <p:cNvSpPr/>
            <p:nvPr/>
          </p:nvSpPr>
          <p:spPr>
            <a:xfrm>
              <a:off x="912600" y="279288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直接连接符 6"/>
            <p:cNvSpPr/>
            <p:nvPr/>
          </p:nvSpPr>
          <p:spPr>
            <a:xfrm>
              <a:off x="900360" y="35474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8"/>
          <p:cNvGrpSpPr/>
          <p:nvPr/>
        </p:nvGrpSpPr>
        <p:grpSpPr>
          <a:xfrm>
            <a:off x="3595680" y="1854360"/>
            <a:ext cx="1471680" cy="2226960"/>
            <a:chOff x="3595680" y="1854360"/>
            <a:chExt cx="1471680" cy="2226960"/>
          </a:xfrm>
        </p:grpSpPr>
        <p:sp>
          <p:nvSpPr>
            <p:cNvPr id="1058" name="文本框 9"/>
            <p:cNvSpPr/>
            <p:nvPr/>
          </p:nvSpPr>
          <p:spPr>
            <a:xfrm>
              <a:off x="359568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3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2  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直接连接符 10"/>
            <p:cNvSpPr/>
            <p:nvPr/>
          </p:nvSpPr>
          <p:spPr>
            <a:xfrm>
              <a:off x="3659040" y="279288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直接连接符 12"/>
            <p:cNvSpPr/>
            <p:nvPr/>
          </p:nvSpPr>
          <p:spPr>
            <a:xfrm>
              <a:off x="3646800" y="35474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组合 14"/>
          <p:cNvGrpSpPr/>
          <p:nvPr/>
        </p:nvGrpSpPr>
        <p:grpSpPr>
          <a:xfrm>
            <a:off x="6342120" y="1854360"/>
            <a:ext cx="1471680" cy="2226960"/>
            <a:chOff x="6342120" y="1854360"/>
            <a:chExt cx="1471680" cy="2226960"/>
          </a:xfrm>
        </p:grpSpPr>
        <p:sp>
          <p:nvSpPr>
            <p:cNvPr id="1062" name="文本框 15"/>
            <p:cNvSpPr/>
            <p:nvPr/>
          </p:nvSpPr>
          <p:spPr>
            <a:xfrm>
              <a:off x="634212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 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6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7  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直接连接符 16"/>
            <p:cNvSpPr/>
            <p:nvPr/>
          </p:nvSpPr>
          <p:spPr>
            <a:xfrm>
              <a:off x="6405480" y="279288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17"/>
            <p:cNvSpPr/>
            <p:nvPr/>
          </p:nvSpPr>
          <p:spPr>
            <a:xfrm>
              <a:off x="6393240" y="35474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文本框 18"/>
          <p:cNvSpPr/>
          <p:nvPr/>
        </p:nvSpPr>
        <p:spPr>
          <a:xfrm>
            <a:off x="2436840" y="13208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9"/>
          <p:cNvSpPr/>
          <p:nvPr/>
        </p:nvSpPr>
        <p:spPr>
          <a:xfrm>
            <a:off x="494352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20"/>
          <p:cNvSpPr/>
          <p:nvPr/>
        </p:nvSpPr>
        <p:spPr>
          <a:xfrm>
            <a:off x="794376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文本框 2"/>
          <p:cNvSpPr/>
          <p:nvPr/>
        </p:nvSpPr>
        <p:spPr>
          <a:xfrm>
            <a:off x="438120" y="781200"/>
            <a:ext cx="68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     里面填上合适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3"/>
          <p:cNvSpPr/>
          <p:nvPr/>
        </p:nvSpPr>
        <p:spPr>
          <a:xfrm>
            <a:off x="898560" y="803160"/>
            <a:ext cx="431640" cy="43020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14"/>
          <p:cNvGrpSpPr/>
          <p:nvPr/>
        </p:nvGrpSpPr>
        <p:grpSpPr>
          <a:xfrm>
            <a:off x="380880" y="1852560"/>
            <a:ext cx="8355240" cy="1373760"/>
            <a:chOff x="380880" y="1852560"/>
            <a:chExt cx="8355240" cy="1373760"/>
          </a:xfrm>
        </p:grpSpPr>
        <p:sp>
          <p:nvSpPr>
            <p:cNvPr id="1071" name="文本框 5"/>
            <p:cNvSpPr/>
            <p:nvPr/>
          </p:nvSpPr>
          <p:spPr>
            <a:xfrm>
              <a:off x="380880" y="1852560"/>
              <a:ext cx="8355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+     +27=62       37+     +33=97      90-62-      =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0 -     -  7=53        65 -     +16=54           +27-58=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矩形 6"/>
            <p:cNvSpPr/>
            <p:nvPr/>
          </p:nvSpPr>
          <p:spPr>
            <a:xfrm>
              <a:off x="1111680" y="190260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7"/>
            <p:cNvSpPr/>
            <p:nvPr/>
          </p:nvSpPr>
          <p:spPr>
            <a:xfrm>
              <a:off x="4090320" y="189360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8"/>
            <p:cNvSpPr/>
            <p:nvPr/>
          </p:nvSpPr>
          <p:spPr>
            <a:xfrm>
              <a:off x="7446600" y="191844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9"/>
            <p:cNvSpPr/>
            <p:nvPr/>
          </p:nvSpPr>
          <p:spPr>
            <a:xfrm>
              <a:off x="6402600" y="2752200"/>
              <a:ext cx="43020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矩形 10"/>
            <p:cNvSpPr/>
            <p:nvPr/>
          </p:nvSpPr>
          <p:spPr>
            <a:xfrm>
              <a:off x="4131000" y="274644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矩形 12"/>
            <p:cNvSpPr/>
            <p:nvPr/>
          </p:nvSpPr>
          <p:spPr>
            <a:xfrm>
              <a:off x="1100880" y="2737800"/>
              <a:ext cx="430560" cy="42984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文本框 15"/>
          <p:cNvSpPr/>
          <p:nvPr/>
        </p:nvSpPr>
        <p:spPr>
          <a:xfrm>
            <a:off x="1041480" y="186696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6"/>
          <p:cNvSpPr/>
          <p:nvPr/>
        </p:nvSpPr>
        <p:spPr>
          <a:xfrm>
            <a:off x="4032360" y="184932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7"/>
          <p:cNvSpPr/>
          <p:nvPr/>
        </p:nvSpPr>
        <p:spPr>
          <a:xfrm>
            <a:off x="7473960" y="187488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8"/>
          <p:cNvSpPr/>
          <p:nvPr/>
        </p:nvSpPr>
        <p:spPr>
          <a:xfrm>
            <a:off x="1033560" y="271944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19"/>
          <p:cNvSpPr/>
          <p:nvPr/>
        </p:nvSpPr>
        <p:spPr>
          <a:xfrm>
            <a:off x="4068720" y="270180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20"/>
          <p:cNvSpPr/>
          <p:nvPr/>
        </p:nvSpPr>
        <p:spPr>
          <a:xfrm>
            <a:off x="6334200" y="2701800"/>
            <a:ext cx="7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文本框 2"/>
          <p:cNvSpPr/>
          <p:nvPr/>
        </p:nvSpPr>
        <p:spPr>
          <a:xfrm>
            <a:off x="446040" y="890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了迎接国庆节，学校买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盆月季花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盆丁香花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盆百合花，学校一共买来多少盆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3"/>
          <p:cNvSpPr/>
          <p:nvPr/>
        </p:nvSpPr>
        <p:spPr>
          <a:xfrm>
            <a:off x="1093680" y="1909800"/>
            <a:ext cx="73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9+32+28=7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学校一共买来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盆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4"/>
          <p:cNvSpPr/>
          <p:nvPr/>
        </p:nvSpPr>
        <p:spPr>
          <a:xfrm>
            <a:off x="520560" y="3309840"/>
            <a:ext cx="81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丽在计算一道减法题时，把减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结果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正确的差应该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5"/>
          <p:cNvSpPr/>
          <p:nvPr/>
        </p:nvSpPr>
        <p:spPr>
          <a:xfrm>
            <a:off x="1084320" y="4413240"/>
            <a:ext cx="73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5+21-12=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正确的差应该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48Z</dcterms:modified>
  <cp:revision>1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